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C7E2-0274-4BB1-BEE2-04AE5B51A8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354C-C2D8-48D1-9E6F-A03B834D4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ckground to this CPG development is as follows: …. Worldwide, we know that the prevalence of CKD and ESRD is increasing.  In Malaysian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808A-41C2-4CD2-B938-2907B33FF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1DA8-62B8-4209-A2F5-C8A7A9E9D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7DAE-7403-422D-956E-EC522B102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F369-027C-4FA6-9B40-EBE847807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CCA1-7BE2-419D-A675-F035AADAA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F8FE-7A4B-4438-B650-50038DCE9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07B0-7C40-4E64-B526-398B30D93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833E-2FC2-4875-873A-2C47BCC51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5581-BFA9-4FC5-AE16-7A695CCF9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son for using a range of target BP was twofold: 1. to encourage doctors to actually achieve target levels  rather than stop efforts to  optinise BP when approaching an absolute  target level 2. to set a lower limit/thershold for BP lowering in the light of evidence that there may be a level below which there was no clear benefit to patients and/or more negative outco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06EF-6F9F-4A93-A497-811BE40AD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82D3-58D4-4D21-8FF0-A57B1ED4F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ACF9-F5B2-4F9A-BA4F-71927E4A7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803C-65D4-41DF-B363-E68B2412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29FE3-A6AB-44FD-8A93-5B6D6D5C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F51F0C-AB9F-4EC0-9187-16E22C81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62586E-17EB-4394-A20C-C8234684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5318E-1802-426D-AB35-8F429293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4A17A6-426A-4C1C-B470-BCE53B14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3DFC6-3A13-40AC-852E-A2CF072A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FEEDD0-156E-4123-8A71-A6ADAE72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062013-B70F-4598-A470-A2C3BADE4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C7D17C-354B-4BE0-90AB-E5533D61D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7DAD1B-B625-477C-BBB6-D8E46DE1D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A19F-D0DE-4505-9AAF-4DF380897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99E725-B629-44B7-A035-13FF1DBF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1AA581-58FD-4D91-A781-3DA8EC0A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83448B-70C8-47D6-8E4B-24FDB3AD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CD2A93-D3FD-45D5-84B4-6AA60862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D5D39-B25F-4EFA-8D9B-6B365548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D8F37B-FF57-49C0-B2C0-222628CB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B1DC16-7684-412A-BB3B-2F2F6D48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555974-5810-4EB9-B1EC-292056ED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8E19BB-A2D7-4B61-B220-C9E03AC2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F57525-DE80-41C6-80B6-8B1D0BCC3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2A11-DA42-49D3-94C8-F8A2B5C77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AFDD7A-90C2-46DA-B47F-2473886A2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3DDB54-3E09-48C7-B15D-E2C915943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D9EB3C-A656-4FD6-BC48-9C0FF653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8A56A2-AB95-4781-A813-930E76FA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ACEAF7-41BE-4A71-9F09-04D9A640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9C443-E259-4ED0-9356-3E6233D9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36B33-E04D-47CD-A799-1FD6F7DA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81E657-D806-460F-873B-6DA5E8AE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30A581-C9B4-4178-BDAF-60E3D055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4F18B3-D343-416D-8C66-251314ED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596C-FB09-4E93-9561-18AFA68DD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B1129-3D69-446A-AE82-F28E4695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4E0D6F-EC2A-4841-90C6-02390AE7D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31DFC9-AB15-4DBE-8423-72E89652D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307D53-412A-4CE0-8FEA-892302521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F1D499-F014-4B14-BEC8-83C46ADE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C822E3-161D-4D36-B539-D986BDE4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45CCBE-3923-47A9-A81B-1A42DF30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0D3886-8E3B-4332-B1C9-DB28CD82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C68EF1-781E-4099-B4DB-4A9F334D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D04663-7795-4A7F-9E82-29066BBF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3A103-7D96-4E77-AE09-01364B1D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30CE08-306E-42F5-A795-7D73E166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81BD1E-9D02-455B-9BD1-1653EBDB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C3938E-73CC-4F65-A67A-4C29918E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1F0291-320F-4283-BF62-B8EAE0AEF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FFDD3E-32D2-4FDF-BA43-AAFF4F8B5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0320-C971-452A-A90B-85B6ED2C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6DF6-07CD-4CED-A909-A5F1B3F4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402F-A3D4-4342-A7DE-FC463174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2B96-95F7-471B-A168-6D0DC743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9C62-C46C-4AC5-A53F-AA4A05DF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11E8-D0A7-4297-A963-0283B740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FA2A-01FA-4E1A-B8CE-8CF429EB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A503-6823-47E9-80C1-CDC94521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628E-1B10-4B7D-B742-4AC8CA90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283C-9217-4A09-82DF-43395819F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7146-F602-4B60-99C1-8F26695BB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9DA53-94B5-4C3F-BBBF-72D2917DC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A6B13-61E9-49BC-AC22-E4449611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E5985-9E1C-40CE-A61C-AA529FEF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1DD35-63C3-4FC7-BD31-844256F2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61D05-F5FD-473E-945F-0F5FACD2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322F-5FA6-42D0-A5B4-D85C40FE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7BBD0-979A-43B7-9406-3B7B8D96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1E1CB-735E-478B-9A96-C8DDEDAB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47ECA-A126-4A9E-B90E-98564CA0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C98E3-D69E-4B8D-BFCC-94C5132C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C64B4-6D0D-48BD-9E98-6367363F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36717-992E-40EF-B4D2-131BB7DF7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E2828-336A-4F59-BD08-FB93AD7F4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6A6CA-0EC6-4476-B0B6-B32A5A824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FD860-B5B8-4EDB-9659-2CB4CF13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AF364-230B-41E7-B488-28480E7D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453F-AE27-4B30-985A-D59DC9D1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83E45-46CA-434E-905E-3E19DA4A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CD1B6-5F39-4D92-B381-925CDE81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A09D6-8A83-4030-9283-99440F68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84459-C904-4905-908A-3B042ABA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D42A7-07F7-4AD2-AA96-0006DE67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DF4A0-90B9-4CB9-9340-8215414B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2FABB-D2DA-4E2D-A555-B6DBA16C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A3E97-FD07-493D-9611-B47A13C66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DF5D2-C6F2-4B83-9E0B-3521E4ADF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E1AA9-7F99-4EDD-9A46-61B2D3589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FF55-F0DD-43D6-8BAC-236494FB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10D36-6C28-4BD8-ACDB-A869AA7E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00CA7-FA57-4329-BD50-981EE298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78CFC-CF50-4B47-AD8F-427068FE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1A48D-B305-4C2B-8139-B0CD7AE7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3C9F9-E063-4576-AF38-1D752F2B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56ACF-4FAD-491E-93C7-FAD189DB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FCE22-9F60-4DFD-A5AD-6E96D615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A118C-BB1D-4232-AEED-AC047555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99454-EB0A-4AFA-B38B-60F2B94A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DA4FC-1CB0-4EDF-B0A9-397678000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0C98-8BE3-4407-81F6-4E547747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B4435-B32B-45E1-B1FA-2858E1DFF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940DF-9AEB-4CD2-A8F0-F49B2FB06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F8B3A-E330-4A49-82FD-DFFD173B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C727E-8FC9-4D92-AB97-EFFA72DA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50119-BFAE-4323-A319-3F0C0EDE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25D3A-ABE8-4827-8F66-4CCF5196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FE800-ED24-47CC-A597-87F1C44E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65718-741B-47AD-B97C-7A62A05A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BF206-96EB-4145-BBFC-258F6EF4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EDC97-4FD3-403B-8D06-34E876FD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0C34-71F8-41E8-BDFD-F942E4F8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8FFB6-2B7F-41BB-B9FE-E3E9734E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5374B-E34F-4582-ACA0-C85CF4A60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F3465-8F34-43AB-AC35-FC839BC8C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AF291-1DB1-460D-8474-6E8CEF1C8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8B90B-F95A-45D8-BD6E-0EAA2268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B106C-2AD2-4AAF-88FC-AB98C58E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AE714-1698-4272-ABE5-CB55FFAE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D7903-99A4-48F5-B70F-6F035BA9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A09E0-6CDE-472F-8D27-E9CEA811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6178F-1C9A-4D64-A7F5-32C3A792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B37A-861F-4809-8C42-114B21E8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3631F-28D9-4DE5-9120-3C33E13B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76D32-E390-4594-B819-677480EF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845A3-2604-439B-89F7-6D82978D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718A4-FDFA-4696-B470-95859AFEA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B7171-BA5E-42D3-ABF6-7BFD1A738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EA600-ABAF-4D9F-9E0A-924D8D11D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176AA7-9503-4C54-9AC1-E5646AE7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E31D7-B2A6-4A6D-A0C0-503DD9CE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6AC8A-F6EB-4523-BB00-62EBE87E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79968-805A-42E8-AD17-60236B87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F81D-480B-4FFA-B155-4FFB1C84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D3D0F-6C07-4A3C-8F72-54B9FF7B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8E713-2B17-404D-93AC-C6B16078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201A2-FC21-4F56-9A3D-E22998C8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E7E7A-DF50-4B4C-8FDB-9E1670CF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A8802-4C6F-476D-81DC-5F799C50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11D33-FEF5-40ED-8C97-521B14FB0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AF5FF-A358-4609-A247-354C746D4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FB3103-89A1-4615-936E-D6ADA9441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E247F8-A7E1-417A-97A4-763C3A4A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77D8BA-F135-41F5-A3A6-C0AC2909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B555DB-EC29-4C44-95BE-A102A31E7157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4DD1F1-53C3-4152-9EB7-CCBA3DB5689F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0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1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E610-6894-4262-98E1-75F124FFAC63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E2F4-B3FB-4292-A876-207AEA10A963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29F7-DD17-483B-BEB2-1D3127272EED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CE20-D344-4F3A-A62C-D5AE6EE1E11C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10A7-59E8-482C-9FD4-553F6F5D6DE8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B206-AE98-42D5-BC7A-A98EACE88446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473B-09FE-4DDE-A7E2-A88D9EA24270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6A5C-F788-402C-A42B-BF52C4CAC982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6216-33B0-4EA8-8E11-30984043A304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7E8A-9990-4505-90D6-8A6D34F7FA8A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D8B0-EA05-47E0-B59B-3BEE7C82DCBD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E21E-E2C2-4956-AD88-D7A618F8E58E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BA69-905F-47E3-B77E-EE03BA2497FA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7515-53DF-427F-B793-F034581350AD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FCF4-7093-4F26-9CD9-1057E3E750F9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1DB1-92B6-4707-8DC5-B85769B99103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EA8A-39B1-4490-8DDD-770C520ADF37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9818-2844-42A9-BC11-0E700095CBB0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ABD5-5FB1-44DF-9E27-8F92C56DD4D7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4E94-9DF9-488A-9610-77A5713B07DA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10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1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722F-51C6-44F0-8431-0CBCB05C7F25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3BFE-DD0E-48A9-862C-05091BD88A4E}" type="slidenum">
              <a:rPr b="0" lang="ms-MY" sz="1000" spc="-1" strike="noStrike">
                <a:solidFill>
                  <a:srgbClr val="34406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osmokingsigns.com/images/signs/nosmokingstickerlarge.gif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7010280" cy="295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KEMEROSOTAN </a:t>
            </a:r>
            <a:br>
              <a:rPr sz="4800"/>
            </a:b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PENYAKIT CKD</a:t>
            </a:r>
            <a:br>
              <a:rPr sz="4800"/>
            </a:b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(</a:t>
            </a:r>
            <a:r>
              <a:rPr b="1" i="1" lang="en-MY" sz="4800" spc="-1" strike="noStrike">
                <a:solidFill>
                  <a:srgbClr val="000000"/>
                </a:solidFill>
                <a:latin typeface="Calibri Light"/>
              </a:rPr>
              <a:t>Progression of CKD</a:t>
            </a: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533520" y="5105520"/>
            <a:ext cx="799920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4068"/>
                </a:solidFill>
                <a:latin typeface="Calibri Light"/>
              </a:rPr>
              <a:t>MODUL LATIHAN PARAMEDIK UNTUK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44068"/>
                </a:solidFill>
                <a:latin typeface="Calibri Light"/>
              </a:rPr>
              <a:t>CLINICAL PRACTICE GUIDELINES (CPG)</a:t>
            </a:r>
            <a:br>
              <a:rPr sz="2000"/>
            </a:br>
            <a:r>
              <a:rPr b="1" lang="en-US" sz="2000" spc="-1" strike="noStrike">
                <a:solidFill>
                  <a:srgbClr val="344068"/>
                </a:solidFill>
                <a:latin typeface="Calibri Light"/>
              </a:rPr>
              <a:t>RAWATAN PENYAKIT GINJAL KRONIK (</a:t>
            </a:r>
            <a:r>
              <a:rPr b="1" i="1" lang="en-US" sz="2000" spc="-1" strike="noStrike">
                <a:solidFill>
                  <a:srgbClr val="344068"/>
                </a:solidFill>
                <a:latin typeface="Calibri Light"/>
              </a:rPr>
              <a:t>CKD</a:t>
            </a:r>
            <a:r>
              <a:rPr b="1" lang="en-US" sz="2000" spc="-1" strike="noStrike">
                <a:solidFill>
                  <a:srgbClr val="344068"/>
                </a:solidFill>
                <a:latin typeface="Calibri Light"/>
              </a:rPr>
              <a:t>) DEWASA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3" name="Slide Number Placeholder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D232-3904-4019-81B7-8916160C4035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3" descr=""/>
          <p:cNvPicPr/>
          <p:nvPr/>
        </p:nvPicPr>
        <p:blipFill>
          <a:blip r:embed="rId1"/>
          <a:stretch/>
        </p:blipFill>
        <p:spPr>
          <a:xfrm>
            <a:off x="7400880" y="85680"/>
            <a:ext cx="164628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3"/>
          <p:cNvSpPr/>
          <p:nvPr/>
        </p:nvSpPr>
        <p:spPr>
          <a:xfrm>
            <a:off x="5423400" y="838080"/>
            <a:ext cx="29070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CEi/ARB initi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3333600" y="1995480"/>
            <a:ext cx="2722680" cy="82548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heck  Cr and K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ithin 7-14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349560" y="3075120"/>
            <a:ext cx="255060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83c6"/>
                </a:solidFill>
                <a:latin typeface="Arial"/>
              </a:rPr>
              <a:t>Cr rise &lt;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83c6"/>
                </a:solidFill>
                <a:latin typeface="Arial"/>
              </a:rPr>
              <a:t>BP not achie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83c6"/>
                </a:solidFill>
                <a:latin typeface="Arial"/>
              </a:rPr>
              <a:t>No high K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6"/>
          <p:cNvSpPr/>
          <p:nvPr/>
        </p:nvSpPr>
        <p:spPr>
          <a:xfrm>
            <a:off x="5867280" y="3048120"/>
            <a:ext cx="31244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83c6"/>
                </a:solidFill>
                <a:latin typeface="Arial"/>
              </a:rPr>
              <a:t>Cr </a:t>
            </a:r>
            <a:r>
              <a:rPr b="1" i="1" lang="en-US" sz="2400" spc="-1" strike="noStrike">
                <a:solidFill>
                  <a:srgbClr val="2683c6"/>
                </a:solidFill>
                <a:latin typeface="Wingdings"/>
                <a:ea typeface="Wingdings"/>
              </a:rPr>
              <a:t></a:t>
            </a:r>
            <a:r>
              <a:rPr b="1" i="1" lang="en-US" sz="2400" spc="-1" strike="noStrike">
                <a:solidFill>
                  <a:srgbClr val="2683c6"/>
                </a:solidFill>
                <a:latin typeface="Arial"/>
              </a:rPr>
              <a:t> &gt;30% in 2/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7"/>
          <p:cNvSpPr/>
          <p:nvPr/>
        </p:nvSpPr>
        <p:spPr>
          <a:xfrm>
            <a:off x="6705720" y="4089240"/>
            <a:ext cx="2016000" cy="45972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op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8"/>
          <p:cNvSpPr/>
          <p:nvPr/>
        </p:nvSpPr>
        <p:spPr>
          <a:xfrm>
            <a:off x="6680160" y="4994280"/>
            <a:ext cx="2078280" cy="82548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ssess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ilateral 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9"/>
          <p:cNvSpPr/>
          <p:nvPr/>
        </p:nvSpPr>
        <p:spPr>
          <a:xfrm>
            <a:off x="712080" y="5019840"/>
            <a:ext cx="1703160" cy="82548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cr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CEi d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10"/>
          <p:cNvSpPr/>
          <p:nvPr/>
        </p:nvSpPr>
        <p:spPr>
          <a:xfrm flipH="1">
            <a:off x="5186520" y="1353960"/>
            <a:ext cx="863280" cy="576360"/>
          </a:xfrm>
          <a:prstGeom prst="line">
            <a:avLst/>
          </a:prstGeom>
          <a:ln w="763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11"/>
          <p:cNvSpPr/>
          <p:nvPr/>
        </p:nvSpPr>
        <p:spPr>
          <a:xfrm>
            <a:off x="1582560" y="4307040"/>
            <a:ext cx="0" cy="647640"/>
          </a:xfrm>
          <a:prstGeom prst="line">
            <a:avLst/>
          </a:prstGeom>
          <a:ln w="763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12"/>
          <p:cNvSpPr/>
          <p:nvPr/>
        </p:nvSpPr>
        <p:spPr>
          <a:xfrm>
            <a:off x="1655640" y="2481120"/>
            <a:ext cx="0" cy="505080"/>
          </a:xfrm>
          <a:prstGeom prst="line">
            <a:avLst/>
          </a:prstGeom>
          <a:ln w="763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13"/>
          <p:cNvSpPr/>
          <p:nvPr/>
        </p:nvSpPr>
        <p:spPr>
          <a:xfrm>
            <a:off x="7696080" y="4594320"/>
            <a:ext cx="0" cy="360360"/>
          </a:xfrm>
          <a:prstGeom prst="line">
            <a:avLst/>
          </a:prstGeom>
          <a:ln w="763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4"/>
          <p:cNvSpPr/>
          <p:nvPr/>
        </p:nvSpPr>
        <p:spPr>
          <a:xfrm>
            <a:off x="7620120" y="3530520"/>
            <a:ext cx="0" cy="507960"/>
          </a:xfrm>
          <a:prstGeom prst="line">
            <a:avLst/>
          </a:prstGeom>
          <a:ln w="763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5"/>
          <p:cNvSpPr/>
          <p:nvPr/>
        </p:nvSpPr>
        <p:spPr>
          <a:xfrm>
            <a:off x="1657440" y="2506680"/>
            <a:ext cx="1655640" cy="0"/>
          </a:xfrm>
          <a:prstGeom prst="line">
            <a:avLst/>
          </a:prstGeom>
          <a:ln w="76320">
            <a:solidFill>
              <a:srgbClr val="2683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6"/>
          <p:cNvSpPr/>
          <p:nvPr/>
        </p:nvSpPr>
        <p:spPr>
          <a:xfrm>
            <a:off x="6108840" y="2529000"/>
            <a:ext cx="1511280" cy="0"/>
          </a:xfrm>
          <a:prstGeom prst="line">
            <a:avLst/>
          </a:prstGeom>
          <a:ln w="76320">
            <a:solidFill>
              <a:srgbClr val="2683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7"/>
          <p:cNvSpPr/>
          <p:nvPr/>
        </p:nvSpPr>
        <p:spPr>
          <a:xfrm>
            <a:off x="3733920" y="3219480"/>
            <a:ext cx="167616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83c6"/>
                </a:solidFill>
                <a:latin typeface="Arial"/>
              </a:rPr>
              <a:t>High K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8"/>
          <p:cNvSpPr/>
          <p:nvPr/>
        </p:nvSpPr>
        <p:spPr>
          <a:xfrm>
            <a:off x="3463200" y="4156200"/>
            <a:ext cx="7920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83c6"/>
                </a:solidFill>
                <a:latin typeface="Arial"/>
              </a:rPr>
              <a:t>M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9"/>
          <p:cNvSpPr/>
          <p:nvPr/>
        </p:nvSpPr>
        <p:spPr>
          <a:xfrm>
            <a:off x="4414680" y="4156200"/>
            <a:ext cx="15289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83c6"/>
                </a:solidFill>
                <a:latin typeface="Arial"/>
              </a:rPr>
              <a:t>Sev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20"/>
          <p:cNvSpPr/>
          <p:nvPr/>
        </p:nvSpPr>
        <p:spPr>
          <a:xfrm>
            <a:off x="4537080" y="2865600"/>
            <a:ext cx="0" cy="360360"/>
          </a:xfrm>
          <a:prstGeom prst="line">
            <a:avLst/>
          </a:prstGeom>
          <a:ln w="763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21"/>
          <p:cNvSpPr/>
          <p:nvPr/>
        </p:nvSpPr>
        <p:spPr>
          <a:xfrm>
            <a:off x="3960720" y="3730680"/>
            <a:ext cx="0" cy="360360"/>
          </a:xfrm>
          <a:prstGeom prst="line">
            <a:avLst/>
          </a:prstGeom>
          <a:ln w="763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22"/>
          <p:cNvSpPr/>
          <p:nvPr/>
        </p:nvSpPr>
        <p:spPr>
          <a:xfrm>
            <a:off x="5041800" y="3730680"/>
            <a:ext cx="0" cy="360360"/>
          </a:xfrm>
          <a:prstGeom prst="line">
            <a:avLst/>
          </a:prstGeom>
          <a:ln w="763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23"/>
          <p:cNvSpPr/>
          <p:nvPr/>
        </p:nvSpPr>
        <p:spPr>
          <a:xfrm>
            <a:off x="6019920" y="4378320"/>
            <a:ext cx="576000" cy="0"/>
          </a:xfrm>
          <a:prstGeom prst="line">
            <a:avLst/>
          </a:prstGeom>
          <a:ln w="763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24"/>
          <p:cNvSpPr/>
          <p:nvPr/>
        </p:nvSpPr>
        <p:spPr>
          <a:xfrm>
            <a:off x="2836800" y="5019840"/>
            <a:ext cx="3483360" cy="82548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duce K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et/other manoue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25"/>
          <p:cNvSpPr/>
          <p:nvPr/>
        </p:nvSpPr>
        <p:spPr>
          <a:xfrm>
            <a:off x="3960720" y="4665600"/>
            <a:ext cx="0" cy="360360"/>
          </a:xfrm>
          <a:prstGeom prst="line">
            <a:avLst/>
          </a:prstGeom>
          <a:ln w="763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26"/>
          <p:cNvSpPr/>
          <p:nvPr/>
        </p:nvSpPr>
        <p:spPr>
          <a:xfrm>
            <a:off x="533520" y="174600"/>
            <a:ext cx="7848360" cy="581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mantauan semasa memulakan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ACEi/A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27"/>
          <p:cNvSpPr/>
          <p:nvPr/>
        </p:nvSpPr>
        <p:spPr>
          <a:xfrm>
            <a:off x="7620120" y="2490840"/>
            <a:ext cx="0" cy="504720"/>
          </a:xfrm>
          <a:prstGeom prst="line">
            <a:avLst/>
          </a:prstGeom>
          <a:ln w="763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6BFC-5391-4BE0-9033-68CFA7E171C4}" type="slidenum">
              <a:rPr b="0" lang="ms-MY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53280" cy="91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awalan pengambilan protein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57200" y="1447560"/>
            <a:ext cx="8153280" cy="419076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 fontScale="94000"/>
          </a:bodyPr>
          <a:p>
            <a:pPr marL="319320" indent="-20880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oleh dipertimbangkan untuk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CK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4 dan 5 - sebelum dialisis dimulakan</a:t>
            </a:r>
            <a:endParaRPr b="0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319320" indent="-20880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319320" indent="-20880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erlu mempertimbangkan kebaikan memperlahankan kemerosotan penyakit ginjal dengan risiko malnutrisi (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protein-energy malnutri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319320" indent="-208800">
              <a:lnSpc>
                <a:spcPct val="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319320" indent="-208800">
              <a:lnSpc>
                <a:spcPct val="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319320" indent="-208800">
              <a:lnSpc>
                <a:spcPct val="5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C6CF-C22E-40F2-85B8-E8F9F4FECF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53280" cy="91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awalan hyperlipidaemia 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457200" y="1447920"/>
            <a:ext cx="8153280" cy="403848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unseling untuk modifikasi gaya hidup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1" marL="444600" indent="-1778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makanan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44600" indent="-1778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aman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44600" indent="-1778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44600" indent="-1778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in perlu dipertimbangkan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5E17-2367-456E-90FD-599A743C83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457200" y="1371600"/>
            <a:ext cx="8153280" cy="495288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rokok boleh merosakkan ginjal sepertimana ia menyebabkan penyakit kardiovaskular.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52FF-A5E2-40B8-A7F5-656BEAAFE4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4" descr="nosmokingstickermediu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73640" y="2895480"/>
            <a:ext cx="3187800" cy="3310200"/>
          </a:xfrm>
          <a:prstGeom prst="rect">
            <a:avLst/>
          </a:prstGeom>
          <a:ln w="0">
            <a:noFill/>
          </a:ln>
        </p:spPr>
      </p:pic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838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4000" spc="-1" strike="noStrike">
                <a:solidFill>
                  <a:srgbClr val="0d0d0d"/>
                </a:solidFill>
                <a:latin typeface="Calibri"/>
              </a:rPr>
              <a:t>Berhenti merokok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838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Calibri"/>
              </a:rPr>
              <a:t>Elak penggunaan agen nefro-toksik   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57200" y="1371240"/>
            <a:ext cx="8153280" cy="487692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Nasihat untuk mengelakkan 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1" marL="574560" indent="-2347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NSAID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 termasuk Cox-2 inhibitors dan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PPI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574560" indent="-2347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bat tradisional and herba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777D-C295-4DB7-BBB5-9E1E4AD557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5" descr="PasajePaquito02-wm"/>
          <p:cNvPicPr/>
          <p:nvPr/>
        </p:nvPicPr>
        <p:blipFill>
          <a:blip r:embed="rId1"/>
          <a:stretch/>
        </p:blipFill>
        <p:spPr>
          <a:xfrm>
            <a:off x="4102200" y="2908440"/>
            <a:ext cx="4346640" cy="33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523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ila rujukan kepada pegawai perubatan diperlukan? 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D447-D61A-44D4-9AC9-F9DF2B84F3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5" descr=""/>
          <p:cNvPicPr/>
          <p:nvPr/>
        </p:nvPicPr>
        <p:blipFill>
          <a:blip r:embed="rId1"/>
          <a:stretch/>
        </p:blipFill>
        <p:spPr>
          <a:xfrm>
            <a:off x="2765520" y="2552760"/>
            <a:ext cx="3657600" cy="2609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dikasi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57200" y="1294920"/>
            <a:ext cx="8153280" cy="480060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339840" indent="-222480">
              <a:lnSpc>
                <a:spcPct val="11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ersistent proteinuria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11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gsi ginjal yang abnormal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GFR/serum creatini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11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kanan darah yang tidak terkawal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11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as diabetes yang tidak terkawal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11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as lipid yang tidak terkawal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11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nita deng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K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ang merancang untuk hamil (Kaunseling prakehamilan)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11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ika ada keraguan…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9E55-C45B-4471-9271-9FB75AADC6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itle 1"/>
          <p:cNvSpPr/>
          <p:nvPr/>
        </p:nvSpPr>
        <p:spPr>
          <a:xfrm>
            <a:off x="457200" y="380880"/>
            <a:ext cx="8229600" cy="792360"/>
          </a:xfrm>
          <a:prstGeom prst="rect">
            <a:avLst/>
          </a:prstGeom>
          <a:solidFill>
            <a:srgbClr val="3440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MS PGothic"/>
              </a:rPr>
              <a:t>Rujukan kepada pakar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MS PGothic"/>
              </a:rPr>
              <a:t>-1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MS P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Content Placeholder 2"/>
          <p:cNvSpPr/>
          <p:nvPr/>
        </p:nvSpPr>
        <p:spPr>
          <a:xfrm>
            <a:off x="457200" y="1447920"/>
            <a:ext cx="8229600" cy="4495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jukan kepada pakar nefrologi atau pakar perubatan perlu dipertimbangkan jika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8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eGF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&lt;30 ml/min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8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Fungsi ginjal merosot dengan mendad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8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Proteinuria ≥1 g/hari atau protein: creatinine ratio dalam kencing (uPCR) ≥0.1 g/mmol untuk pesakit yang tiada diabet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8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Proteinuria dan haematur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lide Number Placeholder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D141-8353-4D34-B1FA-7B7C88BCDD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Box 5"/>
          <p:cNvSpPr/>
          <p:nvPr/>
        </p:nvSpPr>
        <p:spPr>
          <a:xfrm>
            <a:off x="4946400" y="6477120"/>
            <a:ext cx="408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laysian CPG on Management of CKD in Adults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Title 1"/>
          <p:cNvSpPr/>
          <p:nvPr/>
        </p:nvSpPr>
        <p:spPr>
          <a:xfrm>
            <a:off x="457200" y="351000"/>
            <a:ext cx="8229600" cy="792000"/>
          </a:xfrm>
          <a:prstGeom prst="rect">
            <a:avLst/>
          </a:prstGeom>
          <a:solidFill>
            <a:srgbClr val="3440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MS PGothic"/>
              </a:rPr>
              <a:t>Rujukan kepada pakar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MS PGothic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Content Placeholder 2"/>
          <p:cNvSpPr/>
          <p:nvPr/>
        </p:nvSpPr>
        <p:spPr>
          <a:xfrm>
            <a:off x="457200" y="1370160"/>
            <a:ext cx="8229600" cy="4800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uasi l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Tekanan darah yang tidak terkawal dengan tiga jenis ubat termasuk diuretik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Wanita yang hamil atau merancang untuk ham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Punc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CK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yang tidak diketah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lide Number Placeholder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E9D8-BF42-4257-8E60-78C52A9CB6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5"/>
          <p:cNvSpPr/>
          <p:nvPr/>
        </p:nvSpPr>
        <p:spPr>
          <a:xfrm>
            <a:off x="4727160" y="6473880"/>
            <a:ext cx="408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laysian CPG on Management of CKD in Adults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A5F1-F5B7-4351-986C-925DB90A6E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4" descr=""/>
          <p:cNvPicPr/>
          <p:nvPr/>
        </p:nvPicPr>
        <p:blipFill>
          <a:blip r:embed="rId1"/>
          <a:stretch/>
        </p:blipFill>
        <p:spPr>
          <a:xfrm>
            <a:off x="378000" y="66600"/>
            <a:ext cx="8412120" cy="67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21880" y="533160"/>
            <a:ext cx="7543800" cy="3105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ANGKA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914040" y="4495320"/>
            <a:ext cx="745164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 Light"/>
              </a:rPr>
              <a:t>APA YANG PERLU DIPANTAU DALAM </a:t>
            </a:r>
            <a:r>
              <a:rPr b="1" i="1" lang="en-US" sz="2800" spc="-1" strike="noStrike">
                <a:solidFill>
                  <a:srgbClr val="000000"/>
                </a:solidFill>
                <a:latin typeface="Calibri Light"/>
              </a:rPr>
              <a:t>CKD</a:t>
            </a:r>
            <a:r>
              <a:rPr b="1" lang="en-US" sz="2800" spc="-1" strike="noStrike">
                <a:solidFill>
                  <a:srgbClr val="000000"/>
                </a:solidFill>
                <a:latin typeface="Calibri Light"/>
              </a:rPr>
              <a:t>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 Light"/>
              </a:rPr>
              <a:t>BAGAIMANA UNTUK MEMANTAU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144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ECF8-5813-40A7-8C37-0CD63D6311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/>
          </p:nvPr>
        </p:nvSpPr>
        <p:spPr>
          <a:xfrm>
            <a:off x="838080" y="1066320"/>
            <a:ext cx="4572000" cy="27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 Light"/>
              </a:rPr>
              <a:t>TERIMA </a:t>
            </a:r>
            <a:endParaRPr b="0" lang="en-US" sz="80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 Light"/>
              </a:rPr>
              <a:t>KASIH</a:t>
            </a:r>
            <a:endParaRPr b="0" lang="en-US" sz="80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47E3-0749-4844-AA5E-0574A8DD9D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4" descr=""/>
          <p:cNvPicPr/>
          <p:nvPr/>
        </p:nvPicPr>
        <p:blipFill>
          <a:blip r:embed="rId1"/>
          <a:stretch/>
        </p:blipFill>
        <p:spPr>
          <a:xfrm>
            <a:off x="6019920" y="762120"/>
            <a:ext cx="23130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pa yang perlu dipantau dalam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CKD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294920"/>
            <a:ext cx="8153280" cy="480060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339840" indent="-22248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kanan darah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as proteinuria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hap diabetes (FBS dan HbA1c)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gsi ginjal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erum creatinin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GF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rat badan d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MI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siko penyakit jantung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574560" indent="-234720">
              <a:lnSpc>
                <a:spcPct val="90000"/>
              </a:lnSpc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ipid profile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574560" indent="-234720">
              <a:lnSpc>
                <a:spcPct val="90000"/>
              </a:lnSpc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in-lain: ECG 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8AC9-016D-4329-9C48-11DD3120B9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DCC5-D6D0-411F-A7D4-2E2ADCFEC4A5}" type="slidenum">
              <a:rPr b="0" lang="ms-MY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592200" y="882720"/>
          <a:ext cx="8094600" cy="5137200"/>
        </p:xfrm>
        <a:graphic>
          <a:graphicData uri="http://schemas.openxmlformats.org/drawingml/2006/table">
            <a:tbl>
              <a:tblPr/>
              <a:tblGrid>
                <a:gridCol w="263520"/>
                <a:gridCol w="1886040"/>
                <a:gridCol w="895320"/>
                <a:gridCol w="1009440"/>
                <a:gridCol w="1009800"/>
                <a:gridCol w="1011240"/>
                <a:gridCol w="1009440"/>
                <a:gridCol w="1009800"/>
              </a:tblGrid>
              <a:tr h="171360">
                <a:tc gridSpan="2"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H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9920">
                <a:tc gridSpan="2"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RIK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jian Dara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nal Prof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rea (mmol/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5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eatinine (µmol/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GF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</a:t>
                      </a:r>
                      <a:r>
                        <a:rPr b="0" lang="en-GB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mmol/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awalan Kencing Man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BS (4.4 - 6.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bA1c (&lt;6.5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lest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blood cholesterol (&lt;4.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L (mmol/L) (&lt;2.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DL (mmol/L) (&gt;1.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G (mmol/L) (&lt;1.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emoglobin (g/d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cium (mmol/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organic phosphorus (mmol/L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jian Air Kenc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5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FE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marL="343080" indent="-343080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te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marL="343080" indent="-343080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B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uantifika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marL="343080" indent="-343080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bumin creatinine ratio (mg/mmo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marL="343080" indent="-343080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bumin creatinine ratio (mg/mmo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marL="343080" indent="-343080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H urine prote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3" name="TextBox 2"/>
          <p:cNvSpPr/>
          <p:nvPr/>
        </p:nvSpPr>
        <p:spPr>
          <a:xfrm>
            <a:off x="1676520" y="32076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1800" spc="-1" strike="noStrike">
                <a:solidFill>
                  <a:srgbClr val="000000"/>
                </a:solidFill>
                <a:latin typeface="Arial"/>
              </a:rPr>
              <a:t>CARTA KAJ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76312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Kemerosotan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CKD 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0B69-A742-466F-BA6E-8A5F087950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228600" y="762120"/>
          <a:ext cx="8763120" cy="6067440"/>
        </p:xfrm>
        <a:graphic>
          <a:graphicData uri="http://schemas.openxmlformats.org/drawingml/2006/table">
            <a:tbl>
              <a:tblPr/>
              <a:tblGrid>
                <a:gridCol w="3352680"/>
                <a:gridCol w="2705400"/>
                <a:gridCol w="2705040"/>
              </a:tblGrid>
              <a:tr h="1920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44068"/>
                          </a:solidFill>
                          <a:latin typeface="Arial"/>
                          <a:ea typeface="Arial"/>
                        </a:rPr>
                        <a:t>Faktor risiko </a:t>
                      </a:r>
                      <a:r>
                        <a:rPr b="1" i="1" lang="en-US" sz="2400" spc="-1" strike="noStrike">
                          <a:solidFill>
                            <a:srgbClr val="344068"/>
                          </a:solidFill>
                          <a:latin typeface="Arial"/>
                          <a:ea typeface="Arial"/>
                        </a:rPr>
                        <a:t>CK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683c6"/>
                      </a:solidFill>
                    </a:lnL>
                    <a:lnR w="5760">
                      <a:solidFill>
                        <a:srgbClr val="2683c6"/>
                      </a:solidFill>
                    </a:lnR>
                    <a:lnT w="5760">
                      <a:solidFill>
                        <a:srgbClr val="2683c6"/>
                      </a:solidFill>
                    </a:lnT>
                    <a:lnB w="5760">
                      <a:solidFill>
                        <a:srgbClr val="2683c6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aktor mempengaruhi kemerosotan </a:t>
                      </a: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KD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683c6"/>
                      </a:solidFill>
                    </a:lnL>
                    <a:lnR w="5760">
                      <a:solidFill>
                        <a:srgbClr val="2683c6"/>
                      </a:solidFill>
                    </a:lnR>
                    <a:lnT w="5760">
                      <a:solidFill>
                        <a:srgbClr val="2683c6"/>
                      </a:solidFill>
                    </a:lnT>
                    <a:lnB w="5760">
                      <a:solidFill>
                        <a:srgbClr val="2683c6"/>
                      </a:solidFill>
                    </a:lnB>
                    <a:solidFill>
                      <a:srgbClr val="b26b0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omplika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683c6"/>
                      </a:solidFill>
                    </a:lnL>
                    <a:lnR w="5760">
                      <a:solidFill>
                        <a:srgbClr val="2683c6"/>
                      </a:solidFill>
                    </a:lnR>
                    <a:lnT w="5760">
                      <a:solidFill>
                        <a:srgbClr val="2683c6"/>
                      </a:solidFill>
                    </a:lnT>
                    <a:lnB w="5760">
                      <a:solidFill>
                        <a:srgbClr val="2683c6"/>
                      </a:solidFill>
                    </a:lnB>
                    <a:solidFill>
                      <a:srgbClr val="b26b02"/>
                    </a:solidFill>
                  </a:tcPr>
                </a:tc>
              </a:tr>
              <a:tr h="4146840">
                <a:tc>
                  <a:txBody>
                    <a:bodyPr lIns="90000" rIns="90000" tIns="91440" anchor="t">
                      <a:noAutofit/>
                    </a:bodyPr>
                    <a:p>
                      <a:pPr marL="227160" indent="-2271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abe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7160" indent="-2271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yperten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7160" indent="-2271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mur &gt;65 tahu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7160" indent="-2271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jarah keluarga penyakit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K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7160" indent="-2271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in-lain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55680" indent="-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esiti dan sindrom metaboli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55680" indent="-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nggunaan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SAIDs/PP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yang berpanjanga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83c6"/>
                      </a:solidFill>
                    </a:lnL>
                    <a:lnR w="5760">
                      <a:solidFill>
                        <a:srgbClr val="2683c6"/>
                      </a:solidFill>
                    </a:lnR>
                    <a:lnT w="5760">
                      <a:solidFill>
                        <a:srgbClr val="2683c6"/>
                      </a:solidFill>
                    </a:lnT>
                    <a:lnB w="5760">
                      <a:solidFill>
                        <a:srgbClr val="2683c6"/>
                      </a:solidFill>
                    </a:lnB>
                    <a:noFill/>
                  </a:tcPr>
                </a:tc>
                <a:tc>
                  <a:txBody>
                    <a:bodyPr lIns="90000" rIns="90000" tIns="91440" anchor="t">
                      <a:noAutofit/>
                    </a:bodyPr>
                    <a:p>
                      <a:pPr marL="287280" indent="-2872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as proteinuria  yang lebih tingg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7280" indent="-2872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kanan darah yang lebih tingg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7280" indent="-2872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awalan diabetes yang tidak memuask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7280" indent="-2872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rok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7280" indent="-2872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yperlipidaem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7280" indent="-2872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bat nefro-toks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83c6"/>
                      </a:solidFill>
                    </a:lnL>
                    <a:lnR w="5760">
                      <a:solidFill>
                        <a:srgbClr val="2683c6"/>
                      </a:solidFill>
                    </a:lnR>
                    <a:lnT w="5760">
                      <a:solidFill>
                        <a:srgbClr val="2683c6"/>
                      </a:solidFill>
                    </a:lnT>
                    <a:lnB w="5760">
                      <a:solidFill>
                        <a:srgbClr val="2683c6"/>
                      </a:solidFill>
                    </a:lnB>
                    <a:noFill/>
                  </a:tcPr>
                </a:tc>
                <a:tc>
                  <a:txBody>
                    <a:bodyPr lIns="90000" rIns="90000" tIns="91440" anchor="t">
                      <a:noAutofit/>
                    </a:bodyPr>
                    <a:p>
                      <a:pPr marL="287280" indent="-2872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nyakit kardiovaskul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7280" indent="-2872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aem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7280" indent="-2872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nal bone dis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83c6"/>
                      </a:solidFill>
                    </a:lnL>
                    <a:lnR w="5760">
                      <a:solidFill>
                        <a:srgbClr val="2683c6"/>
                      </a:solidFill>
                    </a:lnR>
                    <a:lnT w="5760">
                      <a:solidFill>
                        <a:srgbClr val="2683c6"/>
                      </a:solidFill>
                    </a:lnT>
                    <a:lnB w="5760">
                      <a:solidFill>
                        <a:srgbClr val="2683c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7" name="Text Box 19"/>
          <p:cNvSpPr/>
          <p:nvPr/>
        </p:nvSpPr>
        <p:spPr>
          <a:xfrm>
            <a:off x="2971800" y="6479280"/>
            <a:ext cx="5943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Levey et al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Ann Intern Me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. 2003;139:137-147. USRDS. 1999sAnnual Data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8"/>
          <p:cNvSpPr/>
          <p:nvPr/>
        </p:nvSpPr>
        <p:spPr>
          <a:xfrm>
            <a:off x="3505320" y="1219320"/>
            <a:ext cx="2814480" cy="5268960"/>
          </a:xfrm>
          <a:prstGeom prst="ellipse">
            <a:avLst/>
          </a:prstGeom>
          <a:noFill/>
          <a:ln w="12600">
            <a:solidFill>
              <a:srgbClr val="4f81bd"/>
            </a:solidFill>
            <a:miter/>
          </a:ln>
          <a:effectLst>
            <a:outerShdw dist="25455" dir="27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066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aedah memperlahankan kemerosotan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CKD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447920"/>
            <a:ext cx="8153280" cy="457200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339840" indent="-22248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walan hipertensi yang optima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walan diabetes yang optima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ngurangan proteinuria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533520" indent="-17784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bat untuk mengurangkan proteinuria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723960" indent="-190440">
              <a:lnSpc>
                <a:spcPct val="100000"/>
              </a:lnSpc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ACE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Captopril, Enalapril, Perindopril….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723960" indent="-190440">
              <a:lnSpc>
                <a:spcPct val="100000"/>
              </a:lnSpc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ARB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Losartan, Irbesatan, Telmisartan ….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rhenti merokok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ngawalan protin dalam makanan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ak penggunaan agen nefro-toksik: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533520" indent="-17784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bat tahan sakit seperti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SAIDs/COX2 inhibitor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533520" indent="-17784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bat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P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eperti Omeprazole, Pantoprazol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533520" indent="-17784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bat tradisional dan herba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6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65DB-EE10-4F14-94CB-0355AABCF4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itle 1"/>
          <p:cNvSpPr/>
          <p:nvPr/>
        </p:nvSpPr>
        <p:spPr>
          <a:xfrm>
            <a:off x="407880" y="426960"/>
            <a:ext cx="8229600" cy="792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asaran tekanan dara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3"/>
          <p:cNvSpPr/>
          <p:nvPr/>
        </p:nvSpPr>
        <p:spPr>
          <a:xfrm>
            <a:off x="3022560" y="621180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4"/>
          <p:cNvSpPr/>
          <p:nvPr/>
        </p:nvSpPr>
        <p:spPr>
          <a:xfrm>
            <a:off x="4377960" y="6427800"/>
            <a:ext cx="408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laysian CPG on Management of CKD in Adults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Group 8"/>
          <p:cNvGrpSpPr/>
          <p:nvPr/>
        </p:nvGrpSpPr>
        <p:grpSpPr>
          <a:xfrm>
            <a:off x="444600" y="1143000"/>
            <a:ext cx="8318160" cy="5284440"/>
            <a:chOff x="444600" y="1143000"/>
            <a:chExt cx="8318160" cy="5284440"/>
          </a:xfrm>
        </p:grpSpPr>
        <p:sp>
          <p:nvSpPr>
            <p:cNvPr id="556" name="AutoShape 7"/>
            <p:cNvSpPr/>
            <p:nvPr/>
          </p:nvSpPr>
          <p:spPr>
            <a:xfrm>
              <a:off x="444600" y="1143000"/>
              <a:ext cx="8308440" cy="528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7" name="Picture 9" descr=""/>
            <p:cNvPicPr/>
            <p:nvPr/>
          </p:nvPicPr>
          <p:blipFill>
            <a:blip r:embed="rId1"/>
            <a:srcRect l="0" t="17411" r="0" b="21485"/>
            <a:stretch/>
          </p:blipFill>
          <p:spPr>
            <a:xfrm>
              <a:off x="444600" y="2064600"/>
              <a:ext cx="8318160" cy="323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8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1EE3-041D-4C1C-A30E-95292D708725}" type="slidenum">
              <a:rPr b="0" lang="ms-MY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Content Placeholder 2"/>
          <p:cNvSpPr/>
          <p:nvPr/>
        </p:nvSpPr>
        <p:spPr>
          <a:xfrm>
            <a:off x="457200" y="1523880"/>
            <a:ext cx="8229600" cy="441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HbA1c ≤7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Sasaran diubahsuai mengikut status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co-morbi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5160-E7DE-4574-BC3E-7587B03C56D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4"/>
          <p:cNvSpPr/>
          <p:nvPr/>
        </p:nvSpPr>
        <p:spPr>
          <a:xfrm>
            <a:off x="4574880" y="6475320"/>
            <a:ext cx="408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laysian CPG on Management of CKD in Adults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itle 5"/>
          <p:cNvSpPr/>
          <p:nvPr/>
        </p:nvSpPr>
        <p:spPr>
          <a:xfrm>
            <a:off x="457200" y="409680"/>
            <a:ext cx="8229600" cy="7333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SimSun"/>
              </a:rPr>
              <a:t>Sasaran diabet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itle 1"/>
          <p:cNvSpPr/>
          <p:nvPr/>
        </p:nvSpPr>
        <p:spPr>
          <a:xfrm>
            <a:off x="457200" y="426960"/>
            <a:ext cx="8229600" cy="8683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MS PGothic"/>
              </a:rPr>
              <a:t>Penggunaan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  <a:ea typeface="MS PGothic"/>
              </a:rPr>
              <a:t>ACEi/ARB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Content Placeholder 2"/>
          <p:cNvSpPr/>
          <p:nvPr/>
        </p:nvSpPr>
        <p:spPr>
          <a:xfrm>
            <a:off x="457200" y="1600200"/>
            <a:ext cx="8229600" cy="441972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jian telah menunjukkan bahawa kawalan tekanan darah yang optima boleh memperlahankan kemerosotan fungsi ginj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CE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n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ARB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mberi faedah yang berlebihan kepada pesakit dengan proteinur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gsi ginjal perlu diperiks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6676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sebelum dan 1 - 2 minggu selepas memulak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ACEi/AR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6676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apabila mengubah do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ACEi/A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D766-0584-40FF-ACC4-10837947CA91}" type="slidenum">
              <a:rPr b="0" lang="ms-MY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5T23:25:52Z</dcterms:created>
  <dc:creator>Dr. Ong Loke Meng</dc:creator>
  <dc:description/>
  <dc:language>en-US</dc:language>
  <cp:lastModifiedBy>Dr. Mohd. Aminuddin</cp:lastModifiedBy>
  <dcterms:modified xsi:type="dcterms:W3CDTF">2019-05-16T03:30:09Z</dcterms:modified>
  <cp:revision>238</cp:revision>
  <dc:subject/>
  <dc:title>MANAGEMENT OF  CHRONIC KIDNEY DISEASE IN ADULTS</dc:title>
</cp:coreProperties>
</file>